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jeopardy.wav" ContentType="audio/x-wav"/>
  <Override PartName="/ppt/media/jeopardy1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BD9B-DB21-4D82-9AC7-3DC065867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EEE0-DA09-4CA9-B0E1-73D6871B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BD81-A325-43B3-AD80-07BF806BD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0588-B01E-403D-93EA-C4CC6AD6D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0B30D-7AB5-4F68-AEB3-41D46018F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6AA90-DD04-4ECB-8F08-AE2A6CD8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6698-3D7D-4F6C-AE02-45341E36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5D4F-0D83-417D-B82A-01F8BAB5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09B54-B40B-46DF-ADA8-460502F5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9748-17C7-46AF-80D5-03BFFA5C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DAB4-20CF-46E5-9920-E1AFC2CE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2979-F7F3-4601-88EB-8E50170B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C0B7-AA39-4248-B2DB-8C157C81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EBAE-E91F-4318-81E8-BD286ED5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4D417-C023-41F2-ADB1-8921A4C2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F34B-4C25-41CF-88A6-5DB7378A7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B23D6-C239-4778-8546-537CCC5BE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C08F-A52D-4B1C-A5A9-153EDD9C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1ED6-681F-430D-AC21-02240AC3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2974-014B-4871-9D15-C73DA48D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10D3-10FC-4AA2-8E97-DF4365A2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CDBE-29E3-4DF0-9267-21DACDA0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72AF-54C0-4566-993A-7DC9627D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4D97-8080-4366-A866-16F80A42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6401-D366-485C-86BB-0952CB75588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F0C0-6698-4EA6-AD1D-06D0990060BC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slide" Target="slide19.xml"/><Relationship Id="rId4" Type="http://schemas.openxmlformats.org/officeDocument/2006/relationships/hyperlink" Target="file:///tmp/home/.config/libreoffice/4/user/gallery/COSMIC.WAV" TargetMode="External"/><Relationship Id="rId5" Type="http://schemas.openxmlformats.org/officeDocument/2006/relationships/slide" Target="slide5.xml"/><Relationship Id="rId6" Type="http://schemas.openxmlformats.org/officeDocument/2006/relationships/slide" Target="slide4.xml"/><Relationship Id="rId7" Type="http://schemas.openxmlformats.org/officeDocument/2006/relationships/slide" Target="slide2.xml"/><Relationship Id="rId8" Type="http://schemas.openxmlformats.org/officeDocument/2006/relationships/slide" Target="slide3.xml"/><Relationship Id="rId9" Type="http://schemas.openxmlformats.org/officeDocument/2006/relationships/slide" Target="slide4.xml"/><Relationship Id="rId10" Type="http://schemas.openxmlformats.org/officeDocument/2006/relationships/slide" Target="slide5.xml"/><Relationship Id="rId11" Type="http://schemas.openxmlformats.org/officeDocument/2006/relationships/slide" Target="slide8.xml"/><Relationship Id="rId12" Type="http://schemas.openxmlformats.org/officeDocument/2006/relationships/slide" Target="slide9.xml"/><Relationship Id="rId13" Type="http://schemas.openxmlformats.org/officeDocument/2006/relationships/slide" Target="slide10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7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18.xml"/><Relationship Id="rId22" Type="http://schemas.openxmlformats.org/officeDocument/2006/relationships/slide" Target="slide19.xml"/><Relationship Id="rId23" Type="http://schemas.openxmlformats.org/officeDocument/2006/relationships/slide" Target="slide20.xml"/><Relationship Id="rId24" Type="http://schemas.openxmlformats.org/officeDocument/2006/relationships/slide" Target="slide21.xml"/><Relationship Id="rId25" Type="http://schemas.openxmlformats.org/officeDocument/2006/relationships/slide" Target="slide21.xml"/><Relationship Id="rId26" Type="http://schemas.openxmlformats.org/officeDocument/2006/relationships/slide" Target="slide22.xml"/><Relationship Id="rId27" Type="http://schemas.openxmlformats.org/officeDocument/2006/relationships/slide" Target="slide23.xml"/><Relationship Id="rId28" Type="http://schemas.openxmlformats.org/officeDocument/2006/relationships/slide" Target="slide24.xml"/><Relationship Id="rId29" Type="http://schemas.openxmlformats.org/officeDocument/2006/relationships/slide" Target="slide25.xml"/><Relationship Id="rId30" Type="http://schemas.openxmlformats.org/officeDocument/2006/relationships/slide" Target="slide27.xml"/><Relationship Id="rId31" Type="http://schemas.openxmlformats.org/officeDocument/2006/relationships/slide" Target="slide28.xml"/><Relationship Id="rId32" Type="http://schemas.openxmlformats.org/officeDocument/2006/relationships/slide" Target="slide29.xml"/><Relationship Id="rId33" Type="http://schemas.openxmlformats.org/officeDocument/2006/relationships/slide" Target="slide30.xml"/><Relationship Id="rId34" Type="http://schemas.openxmlformats.org/officeDocument/2006/relationships/slide" Target="slide31.xml"/><Relationship Id="rId35" Type="http://schemas.openxmlformats.org/officeDocument/2006/relationships/slide" Target="slide32.xml"/><Relationship Id="rId36" Type="http://schemas.openxmlformats.org/officeDocument/2006/relationships/audio" Target="../media/jeopardy.wav"/><Relationship Id="rId3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jeopardy1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14480" y="1716480"/>
            <a:ext cx="1291680" cy="528120"/>
          </a:xfrm>
          <a:custGeom>
            <a:avLst/>
            <a:gdLst>
              <a:gd name="textAreaLeft" fmla="*/ 34200 w 1291680"/>
              <a:gd name="textAreaRight" fmla="*/ 1257480 w 129168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52808" h="21600">
                <a:moveTo>
                  <a:pt x="0" y="0"/>
                </a:moveTo>
                <a:lnTo>
                  <a:pt x="52808" y="0"/>
                </a:lnTo>
                <a:lnTo>
                  <a:pt x="52808" y="21600"/>
                </a:lnTo>
                <a:lnTo>
                  <a:pt x="0" y="21600"/>
                </a:lnTo>
                <a:close/>
              </a:path>
              <a:path fill="lightenLess" w="52808" h="21600">
                <a:moveTo>
                  <a:pt x="0" y="0"/>
                </a:moveTo>
                <a:lnTo>
                  <a:pt x="52808" y="0"/>
                </a:lnTo>
                <a:lnTo>
                  <a:pt x="51408" y="1400"/>
                </a:lnTo>
                <a:lnTo>
                  <a:pt x="1400" y="1400"/>
                </a:lnTo>
                <a:close/>
              </a:path>
              <a:path fill="darken" w="52808" h="21600">
                <a:moveTo>
                  <a:pt x="52808" y="0"/>
                </a:moveTo>
                <a:lnTo>
                  <a:pt x="52808" y="21600"/>
                </a:lnTo>
                <a:lnTo>
                  <a:pt x="51408" y="20200"/>
                </a:lnTo>
                <a:lnTo>
                  <a:pt x="51408" y="1400"/>
                </a:lnTo>
                <a:close/>
              </a:path>
              <a:path fill="darkenLess" w="52808" h="21600">
                <a:moveTo>
                  <a:pt x="528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408" y="20200"/>
                </a:lnTo>
                <a:close/>
              </a:path>
              <a:path fill="lighten" w="528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General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0" name="">
            <a:hlinkClick r:id="rId1" action="ppaction://hlinksldjump"/>
          </p:cNvPr>
          <p:cNvSpPr/>
          <p:nvPr/>
        </p:nvSpPr>
        <p:spPr>
          <a:xfrm>
            <a:off x="152280" y="27432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6920" y="441000"/>
            <a:ext cx="720432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e103"/>
                </a:solidFill>
                <a:latin typeface="Arial Black"/>
              </a:rPr>
              <a:t>Vocabulary Challenge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48320" y="5181480"/>
            <a:ext cx="1218960" cy="60984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3162" h="21600">
                <a:moveTo>
                  <a:pt x="0" y="0"/>
                </a:moveTo>
                <a:lnTo>
                  <a:pt x="43162" y="0"/>
                </a:lnTo>
                <a:lnTo>
                  <a:pt x="43162" y="21600"/>
                </a:lnTo>
                <a:lnTo>
                  <a:pt x="0" y="21600"/>
                </a:lnTo>
                <a:close/>
              </a:path>
              <a:path fill="lightenLess" w="43162" h="21600">
                <a:moveTo>
                  <a:pt x="0" y="0"/>
                </a:moveTo>
                <a:lnTo>
                  <a:pt x="43162" y="0"/>
                </a:lnTo>
                <a:lnTo>
                  <a:pt x="41762" y="1400"/>
                </a:lnTo>
                <a:lnTo>
                  <a:pt x="1400" y="1400"/>
                </a:lnTo>
                <a:close/>
              </a:path>
              <a:path fill="darken" w="43162" h="21600">
                <a:moveTo>
                  <a:pt x="43162" y="0"/>
                </a:moveTo>
                <a:lnTo>
                  <a:pt x="43162" y="21600"/>
                </a:lnTo>
                <a:lnTo>
                  <a:pt x="41762" y="20200"/>
                </a:lnTo>
                <a:lnTo>
                  <a:pt x="41762" y="1400"/>
                </a:lnTo>
                <a:close/>
              </a:path>
              <a:path fill="darkenLess" w="43162" h="21600">
                <a:moveTo>
                  <a:pt x="431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2" y="20200"/>
                </a:lnTo>
                <a:close/>
              </a:path>
              <a:path fill="lighten" w="431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48120" y="441972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601992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999040" y="1716480"/>
            <a:ext cx="1594080" cy="528120"/>
          </a:xfrm>
          <a:custGeom>
            <a:avLst/>
            <a:gdLst>
              <a:gd name="textAreaLeft" fmla="*/ 34200 w 1594080"/>
              <a:gd name="textAreaRight" fmla="*/ 1559880 w 159408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65168" h="21600">
                <a:moveTo>
                  <a:pt x="0" y="0"/>
                </a:moveTo>
                <a:lnTo>
                  <a:pt x="65168" y="0"/>
                </a:lnTo>
                <a:lnTo>
                  <a:pt x="65168" y="21600"/>
                </a:lnTo>
                <a:lnTo>
                  <a:pt x="0" y="21600"/>
                </a:lnTo>
                <a:close/>
              </a:path>
              <a:path fill="lightenLess" w="65168" h="21600">
                <a:moveTo>
                  <a:pt x="0" y="0"/>
                </a:moveTo>
                <a:lnTo>
                  <a:pt x="65168" y="0"/>
                </a:lnTo>
                <a:lnTo>
                  <a:pt x="63768" y="1400"/>
                </a:lnTo>
                <a:lnTo>
                  <a:pt x="1400" y="1400"/>
                </a:lnTo>
                <a:close/>
              </a:path>
              <a:path fill="darken" w="65168" h="21600">
                <a:moveTo>
                  <a:pt x="65168" y="0"/>
                </a:moveTo>
                <a:lnTo>
                  <a:pt x="65168" y="21600"/>
                </a:lnTo>
                <a:lnTo>
                  <a:pt x="63768" y="20200"/>
                </a:lnTo>
                <a:lnTo>
                  <a:pt x="63768" y="1400"/>
                </a:lnTo>
                <a:close/>
              </a:path>
              <a:path fill="darkenLess" w="65168" h="21600">
                <a:moveTo>
                  <a:pt x="651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768" y="20200"/>
                </a:lnTo>
                <a:close/>
              </a:path>
              <a:path fill="lighten" w="651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Nonfiction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95880" y="43434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958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96080" y="27432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645320" y="1538280"/>
            <a:ext cx="1498680" cy="947880"/>
          </a:xfrm>
          <a:custGeom>
            <a:avLst/>
            <a:gdLst>
              <a:gd name="textAreaLeft" fmla="*/ 61200 w 1498680"/>
              <a:gd name="textAreaRight" fmla="*/ 1437480 w 1498680"/>
              <a:gd name="textAreaTop" fmla="*/ 61200 h 947880"/>
              <a:gd name="textAreaBottom" fmla="*/ 886680 h 947880"/>
            </a:gdLst>
            <a:ahLst/>
            <a:rect l="textAreaLeft" t="textAreaTop" r="textAreaRight" b="textAreaBottom"/>
            <a:pathLst>
              <a:path w="34147" h="21600">
                <a:moveTo>
                  <a:pt x="0" y="0"/>
                </a:moveTo>
                <a:lnTo>
                  <a:pt x="34147" y="0"/>
                </a:lnTo>
                <a:lnTo>
                  <a:pt x="34147" y="21600"/>
                </a:lnTo>
                <a:lnTo>
                  <a:pt x="0" y="21600"/>
                </a:lnTo>
                <a:close/>
              </a:path>
              <a:path fill="lightenLess" w="34147" h="21600">
                <a:moveTo>
                  <a:pt x="0" y="0"/>
                </a:moveTo>
                <a:lnTo>
                  <a:pt x="34147" y="0"/>
                </a:lnTo>
                <a:lnTo>
                  <a:pt x="32747" y="1400"/>
                </a:lnTo>
                <a:lnTo>
                  <a:pt x="1400" y="1400"/>
                </a:lnTo>
                <a:close/>
              </a:path>
              <a:path fill="darken" w="34147" h="21600">
                <a:moveTo>
                  <a:pt x="34147" y="0"/>
                </a:moveTo>
                <a:lnTo>
                  <a:pt x="34147" y="21600"/>
                </a:lnTo>
                <a:lnTo>
                  <a:pt x="32747" y="20200"/>
                </a:lnTo>
                <a:lnTo>
                  <a:pt x="32747" y="1400"/>
                </a:lnTo>
                <a:close/>
              </a:path>
              <a:path fill="darkenLess" w="34147" h="21600">
                <a:moveTo>
                  <a:pt x="341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47" y="20200"/>
                </a:lnTo>
                <a:close/>
              </a:path>
              <a:path fill="lighten" w="341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Consumer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95880" y="5181480"/>
            <a:ext cx="1219320" cy="60984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5880" y="35053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95880" y="27432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4" name="">
            <a:hlinkClick r:id="rId2" action="ppaction://hlinksldjump"/>
          </p:cNvPr>
          <p:cNvSpPr/>
          <p:nvPr/>
        </p:nvSpPr>
        <p:spPr>
          <a:xfrm>
            <a:off x="3048120" y="274320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48120" y="3581280"/>
            <a:ext cx="1218960" cy="60984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3162" h="21600">
                <a:moveTo>
                  <a:pt x="0" y="0"/>
                </a:moveTo>
                <a:lnTo>
                  <a:pt x="43162" y="0"/>
                </a:lnTo>
                <a:lnTo>
                  <a:pt x="43162" y="21600"/>
                </a:lnTo>
                <a:lnTo>
                  <a:pt x="0" y="21600"/>
                </a:lnTo>
                <a:close/>
              </a:path>
              <a:path fill="lightenLess" w="43162" h="21600">
                <a:moveTo>
                  <a:pt x="0" y="0"/>
                </a:moveTo>
                <a:lnTo>
                  <a:pt x="43162" y="0"/>
                </a:lnTo>
                <a:lnTo>
                  <a:pt x="41762" y="1400"/>
                </a:lnTo>
                <a:lnTo>
                  <a:pt x="1400" y="1400"/>
                </a:lnTo>
                <a:close/>
              </a:path>
              <a:path fill="darken" w="43162" h="21600">
                <a:moveTo>
                  <a:pt x="43162" y="0"/>
                </a:moveTo>
                <a:lnTo>
                  <a:pt x="43162" y="21600"/>
                </a:lnTo>
                <a:lnTo>
                  <a:pt x="41762" y="20200"/>
                </a:lnTo>
                <a:lnTo>
                  <a:pt x="41762" y="1400"/>
                </a:lnTo>
                <a:close/>
              </a:path>
              <a:path fill="darkenLess" w="43162" h="21600">
                <a:moveTo>
                  <a:pt x="431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2" y="20200"/>
                </a:lnTo>
                <a:close/>
              </a:path>
              <a:path fill="lighten" w="431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738680" y="1716480"/>
            <a:ext cx="1114920" cy="528120"/>
          </a:xfrm>
          <a:custGeom>
            <a:avLst/>
            <a:gdLst>
              <a:gd name="textAreaLeft" fmla="*/ 34200 w 1114920"/>
              <a:gd name="textAreaRight" fmla="*/ 1080720 w 111492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45584" h="21600">
                <a:moveTo>
                  <a:pt x="0" y="0"/>
                </a:moveTo>
                <a:lnTo>
                  <a:pt x="45584" y="0"/>
                </a:lnTo>
                <a:lnTo>
                  <a:pt x="45584" y="21600"/>
                </a:lnTo>
                <a:lnTo>
                  <a:pt x="0" y="21600"/>
                </a:lnTo>
                <a:close/>
              </a:path>
              <a:path fill="lightenLess" w="45584" h="21600">
                <a:moveTo>
                  <a:pt x="0" y="0"/>
                </a:moveTo>
                <a:lnTo>
                  <a:pt x="45584" y="0"/>
                </a:lnTo>
                <a:lnTo>
                  <a:pt x="44184" y="1400"/>
                </a:lnTo>
                <a:lnTo>
                  <a:pt x="1400" y="1400"/>
                </a:lnTo>
                <a:close/>
              </a:path>
              <a:path fill="darken" w="45584" h="21600">
                <a:moveTo>
                  <a:pt x="45584" y="0"/>
                </a:moveTo>
                <a:lnTo>
                  <a:pt x="45584" y="21600"/>
                </a:lnTo>
                <a:lnTo>
                  <a:pt x="44184" y="20200"/>
                </a:lnTo>
                <a:lnTo>
                  <a:pt x="44184" y="1400"/>
                </a:lnTo>
                <a:close/>
              </a:path>
              <a:path fill="darkenLess" w="45584" h="21600">
                <a:moveTo>
                  <a:pt x="45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4" y="20200"/>
                </a:lnTo>
                <a:close/>
              </a:path>
              <a:path fill="lighten" w="45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Fiction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648320" y="274320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8" name="">
            <a:hlinkClick r:id="rId3" action="ppaction://hlinksldjump"/>
          </p:cNvPr>
          <p:cNvSpPr/>
          <p:nvPr/>
        </p:nvSpPr>
        <p:spPr>
          <a:xfrm>
            <a:off x="4648320" y="350532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434340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648320" y="601992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696080" y="5181480"/>
            <a:ext cx="1219320" cy="60984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696080" y="43434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696080" y="35053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600200" y="3581280"/>
            <a:ext cx="1219320" cy="60984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6" name="">
            <a:hlinkClick r:id="rId4"/>
          </p:cNvPr>
          <p:cNvSpPr/>
          <p:nvPr/>
        </p:nvSpPr>
        <p:spPr>
          <a:xfrm>
            <a:off x="1600200" y="52578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7" name="">
            <a:hlinkClick r:id="rId5" action="ppaction://hlinksldjump"/>
          </p:cNvPr>
          <p:cNvSpPr/>
          <p:nvPr/>
        </p:nvSpPr>
        <p:spPr>
          <a:xfrm>
            <a:off x="152280" y="52578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22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60020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045240" y="1748160"/>
            <a:ext cx="1215360" cy="528120"/>
          </a:xfrm>
          <a:custGeom>
            <a:avLst/>
            <a:gdLst>
              <a:gd name="textAreaLeft" fmla="*/ 34200 w 1215360"/>
              <a:gd name="textAreaRight" fmla="*/ 1181160 w 121536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49689" h="21600">
                <a:moveTo>
                  <a:pt x="0" y="0"/>
                </a:moveTo>
                <a:lnTo>
                  <a:pt x="49689" y="0"/>
                </a:lnTo>
                <a:lnTo>
                  <a:pt x="49689" y="21600"/>
                </a:lnTo>
                <a:lnTo>
                  <a:pt x="0" y="21600"/>
                </a:lnTo>
                <a:close/>
              </a:path>
              <a:path fill="lightenLess" w="49689" h="21600">
                <a:moveTo>
                  <a:pt x="0" y="0"/>
                </a:moveTo>
                <a:lnTo>
                  <a:pt x="49689" y="0"/>
                </a:lnTo>
                <a:lnTo>
                  <a:pt x="48289" y="1400"/>
                </a:lnTo>
                <a:lnTo>
                  <a:pt x="1400" y="1400"/>
                </a:lnTo>
                <a:close/>
              </a:path>
              <a:path fill="darken" w="49689" h="21600">
                <a:moveTo>
                  <a:pt x="49689" y="0"/>
                </a:moveTo>
                <a:lnTo>
                  <a:pt x="49689" y="21600"/>
                </a:lnTo>
                <a:lnTo>
                  <a:pt x="48289" y="20200"/>
                </a:lnTo>
                <a:lnTo>
                  <a:pt x="48289" y="1400"/>
                </a:lnTo>
                <a:close/>
              </a:path>
              <a:path fill="darkenLess" w="49689" h="21600">
                <a:moveTo>
                  <a:pt x="496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89" y="20200"/>
                </a:lnTo>
                <a:close/>
              </a:path>
              <a:path fill="lighten" w="496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1" name="">
            <a:hlinkClick r:id="rId6" action="ppaction://hlinksldjump"/>
          </p:cNvPr>
          <p:cNvSpPr/>
          <p:nvPr/>
        </p:nvSpPr>
        <p:spPr>
          <a:xfrm>
            <a:off x="152280" y="44197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721160" y="1716480"/>
            <a:ext cx="977760" cy="528120"/>
          </a:xfrm>
          <a:custGeom>
            <a:avLst/>
            <a:gdLst>
              <a:gd name="textAreaLeft" fmla="*/ 34200 w 977760"/>
              <a:gd name="textAreaRight" fmla="*/ 943560 w 97776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39978" h="21600">
                <a:moveTo>
                  <a:pt x="0" y="0"/>
                </a:moveTo>
                <a:lnTo>
                  <a:pt x="39978" y="0"/>
                </a:lnTo>
                <a:lnTo>
                  <a:pt x="39978" y="21600"/>
                </a:lnTo>
                <a:lnTo>
                  <a:pt x="0" y="21600"/>
                </a:lnTo>
                <a:close/>
              </a:path>
              <a:path fill="lightenLess" w="39978" h="21600">
                <a:moveTo>
                  <a:pt x="0" y="0"/>
                </a:moveTo>
                <a:lnTo>
                  <a:pt x="39978" y="0"/>
                </a:lnTo>
                <a:lnTo>
                  <a:pt x="38578" y="1400"/>
                </a:lnTo>
                <a:lnTo>
                  <a:pt x="1400" y="1400"/>
                </a:lnTo>
                <a:close/>
              </a:path>
              <a:path fill="darken" w="39978" h="21600">
                <a:moveTo>
                  <a:pt x="39978" y="0"/>
                </a:moveTo>
                <a:lnTo>
                  <a:pt x="39978" y="21600"/>
                </a:lnTo>
                <a:lnTo>
                  <a:pt x="38578" y="20200"/>
                </a:lnTo>
                <a:lnTo>
                  <a:pt x="38578" y="1400"/>
                </a:lnTo>
                <a:close/>
              </a:path>
              <a:path fill="darkenLess" w="39978" h="21600">
                <a:moveTo>
                  <a:pt x="399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578" y="20200"/>
                </a:lnTo>
                <a:close/>
              </a:path>
              <a:path fill="lighten" w="399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Verbs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00200" y="27432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600200" y="44197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2280" y="3581280"/>
            <a:ext cx="1219320" cy="60984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0880" y="2819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7" action="ppaction://hlinksldjump"/>
              </a:rPr>
              <a:t>1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0880" y="3657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8" action="ppaction://hlinksldjump"/>
              </a:rPr>
              <a:t>2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752480" y="533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4 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492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9" action="ppaction://hlinksldjump"/>
              </a:rPr>
              <a:t>3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0492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10" action="ppaction://hlinksldjump"/>
              </a:rPr>
              <a:t>4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0880" y="609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82880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11" action="ppaction://hlinksldjump"/>
              </a:rPr>
              <a:t>1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752480" y="3657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12" action="ppaction://hlinksldjump"/>
              </a:rPr>
              <a:t>2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828800" y="4495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13" action="ppaction://hlinksldjump"/>
              </a:rPr>
              <a:t>3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828800" y="6095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7672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14" action="ppaction://hlinksldjump"/>
              </a:rPr>
              <a:t>1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76720" y="36576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15" action="ppaction://hlinksldjump"/>
              </a:rPr>
              <a:t>2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276720" y="4495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16" action="ppaction://hlinksldjump"/>
              </a:rPr>
              <a:t>3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200400" y="533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17" action="ppaction://hlinksldjump"/>
              </a:rPr>
              <a:t>4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0" name="">
            <a:hlinkClick r:id="rId18" action="ppaction://hlinksldjump"/>
          </p:cNvPr>
          <p:cNvSpPr/>
          <p:nvPr/>
        </p:nvSpPr>
        <p:spPr>
          <a:xfrm>
            <a:off x="3276720" y="6095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19" action="ppaction://hlinksldjump"/>
              </a:rPr>
              <a:t>5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1" name="">
            <a:hlinkClick r:id="rId20" action="ppaction://hlinksldjump"/>
          </p:cNvPr>
          <p:cNvSpPr/>
          <p:nvPr/>
        </p:nvSpPr>
        <p:spPr>
          <a:xfrm>
            <a:off x="4800600" y="2819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21" action="ppaction://hlinksldjump"/>
              </a:rPr>
              <a:t>1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00600" y="3581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22" action="ppaction://hlinksldjump"/>
              </a:rPr>
              <a:t>2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8006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23" action="ppaction://hlinksldjump"/>
              </a:rPr>
              <a:t>3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4" name="">
            <a:hlinkClick r:id="rId24" action="ppaction://hlinksldjump"/>
          </p:cNvPr>
          <p:cNvSpPr/>
          <p:nvPr/>
        </p:nvSpPr>
        <p:spPr>
          <a:xfrm>
            <a:off x="495288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25" action="ppaction://hlinksldjump"/>
              </a:rPr>
              <a:t>4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800600" y="6095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26" action="ppaction://hlinksldjump"/>
              </a:rPr>
              <a:t>5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2485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27" action="ppaction://hlinksldjump"/>
              </a:rPr>
              <a:t>1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32448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28" action="ppaction://hlinksldjump"/>
              </a:rPr>
              <a:t>2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32448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29" action="ppaction://hlinksldjump"/>
              </a:rPr>
              <a:t>3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324480" y="5257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imes New Roman"/>
              </a:rPr>
              <a:t>4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400800" y="6095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30" action="ppaction://hlinksldjump"/>
              </a:rPr>
              <a:t>5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00100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31" action="ppaction://hlinksldjump"/>
              </a:rPr>
              <a:t>1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077320" y="3581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32" action="ppaction://hlinksldjump"/>
              </a:rPr>
              <a:t>2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848720" y="4419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33" action="ppaction://hlinksldjump"/>
              </a:rPr>
              <a:t>3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00100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34" action="ppaction://hlinksldjump"/>
              </a:rPr>
              <a:t>4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848720" y="6095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35" action="ppaction://hlinksldjump"/>
              </a:rPr>
              <a:t>5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8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9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1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1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2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3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4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4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Verbs 3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c00"/>
                </a:solidFill>
                <a:latin typeface="Arial Black"/>
              </a:rPr>
              <a:t>co</a:t>
            </a:r>
            <a:r>
              <a:rPr b="0" lang="en-US" sz="7200" spc="-1" strike="noStrike">
                <a:solidFill>
                  <a:srgbClr val="ffcc00"/>
                </a:solidFill>
                <a:latin typeface="Arial Black"/>
              </a:rPr>
              <a:t>ntrast</a:t>
            </a:r>
            <a:endParaRPr b="0" lang="en-US" sz="7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1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Verbs 4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c00"/>
                </a:solidFill>
                <a:latin typeface="Arial Black"/>
              </a:rPr>
              <a:t>summarize</a:t>
            </a:r>
            <a:endParaRPr b="0" lang="en-US" sz="7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4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Verbs 5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Arial Black"/>
              </a:rPr>
              <a:t>explain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7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tent 1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 algn="ctr">
              <a:spcBef>
                <a:spcPts val="2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Arial Black"/>
              </a:rPr>
              <a:t>illustration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0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tent 2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Arial Black"/>
              </a:rPr>
              <a:t>subheading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3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tent 3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8000" spc="-1" strike="noStrike">
                <a:solidFill>
                  <a:srgbClr val="ffcc00"/>
                </a:solidFill>
                <a:latin typeface="Arial Black"/>
              </a:rPr>
              <a:t>diagram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6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tent 4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Arial Black"/>
              </a:rPr>
              <a:t>figure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9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tent 5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Arial Black"/>
              </a:rPr>
              <a:t>graphic organizer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2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iction 1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Arial Black"/>
              </a:rPr>
              <a:t>character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5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iction 2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Arial Black"/>
              </a:rPr>
              <a:t>setting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Arial Black"/>
              </a:rPr>
              <a:t>selection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General 1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iction 3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Arial Black"/>
              </a:rPr>
              <a:t>main idea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1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iction 4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Arial Black"/>
              </a:rPr>
              <a:t>event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4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iction 5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Arial Black"/>
              </a:rPr>
              <a:t>mood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7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etry 1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Arial Black"/>
              </a:rPr>
              <a:t>speaker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0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etry 2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Arial Black"/>
              </a:rPr>
              <a:t>stanza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3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etry 3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Arial Black"/>
              </a:rPr>
              <a:t>metaphor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6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etry 4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Arial Black"/>
              </a:rPr>
              <a:t>simile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9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etry 5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1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Arial Black"/>
              </a:rPr>
              <a:t>alliteration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sumer 1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4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Arial Black"/>
              </a:rPr>
              <a:t>recipe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out" orient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sumer 2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7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Arial Black"/>
              </a:rPr>
              <a:t>utensils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General 2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Arial Black"/>
              </a:rPr>
              <a:t>opinion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sumer 3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0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Arial Black"/>
              </a:rPr>
              <a:t>instructions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sumer 4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3" name="">
            <a:hlinkClick r:id="" action="ppaction://hlinkshowjump?jump=firstslide"/>
          </p:cNvPr>
          <p:cNvSpPr/>
          <p:nvPr/>
        </p:nvSpPr>
        <p:spPr>
          <a:xfrm>
            <a:off x="8305920" y="62485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Arial Black"/>
              </a:rPr>
              <a:t>equipment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trips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sumer 5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6" name="">
            <a:hlinkClick r:id="" action="ppaction://hlinkshowjump?jump=firstslide"/>
          </p:cNvPr>
          <p:cNvSpPr/>
          <p:nvPr/>
        </p:nvSpPr>
        <p:spPr>
          <a:xfrm>
            <a:off x="8305920" y="62485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4840" y="1980720"/>
            <a:ext cx="754380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Arial Black"/>
              </a:rPr>
              <a:t>ingredients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General 3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Arial Black"/>
              </a:rPr>
              <a:t>effect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General 4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Arial Black"/>
              </a:rPr>
              <a:t>conclusion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opperplate Gothic Bold"/>
              </a:rPr>
              <a:t>Double Jeopardy</a:t>
            </a:r>
            <a:endParaRPr b="0" lang="en-US" sz="9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9" name="">
            <a:hlinkClick r:id="" action="ppaction://hlinkshowjump?jump=nextslide"/>
          </p:cNvPr>
          <p:cNvSpPr/>
          <p:nvPr/>
        </p:nvSpPr>
        <p:spPr>
          <a:xfrm>
            <a:off x="7086600" y="563868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3794"/>
                </a:moveTo>
                <a:lnTo>
                  <a:pt x="20203" y="10800"/>
                </a:lnTo>
                <a:lnTo>
                  <a:pt x="6190" y="17806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General 5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Arial Black"/>
              </a:rPr>
              <a:t>significance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2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Verbs 1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Arial Black"/>
              </a:rPr>
              <a:t>describe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5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Verbs 2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Arial Black"/>
              </a:rPr>
              <a:t>compare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8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21:05:08Z</dcterms:created>
  <dc:creator>Craig Smith</dc:creator>
  <dc:description/>
  <dc:language>en-US</dc:language>
  <cp:lastModifiedBy>Randolph County Schools</cp:lastModifiedBy>
  <dcterms:modified xsi:type="dcterms:W3CDTF">2008-03-06T17:52:23Z</dcterms:modified>
  <cp:revision>78</cp:revision>
  <dc:subject/>
  <dc:title>Formula Jeopardy!!!</dc:title>
</cp:coreProperties>
</file>